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46AE-CB33-496A-889C-7F52D15AA5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3366-4F82-4C14-B724-26ABC41255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17EF-30A0-4543-809F-FF15588679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186D-BDEB-49EC-9AC4-BC8C54D451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1CD-61CD-4F66-B8B2-93B64ECF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003-D42B-4BCB-AB2C-D4BB5AFD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D6D1-EB5C-42AC-90DF-48161796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A341-FBE5-45E1-A121-81863248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7184-B25F-4769-9387-66004672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2C24-D72C-43F3-AA65-5FFC8778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FD78-E14B-415C-8626-70E1B1C3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D224-CC97-441F-85B8-F0DA8B7A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1198-0E7D-4143-B5C6-F2EDC596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2FAA-F60F-4326-B462-AA61C017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3904-1CFD-4448-9E13-41B9DA8F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4E3-AE5B-4420-A181-69CB823F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C76C-0078-4349-8260-B1D0D69E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9BD8-7AAC-4632-B5EA-537A99BD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4703-0AAF-4615-9DAD-FD529DF5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9715-A8B5-493A-8CF5-882C8809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1547-21FC-4B66-B3A9-3DB1595F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6E5-684B-44F3-B6F5-717041E9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752-1E95-40F9-AE30-3AED318C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149-A25F-4C9D-9673-2D6D7A82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CB6-A049-44BE-9F3C-01A14AB0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397E-CFFE-44F1-862D-EB06C7B3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B3F7-4828-4066-9424-87FE76D3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B9BB-D4BE-4AE3-BCB1-2579AF93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01A0-A9A9-460D-88F7-C67CBA277B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2144-547F-4587-90BC-13F11CD495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-Н- и –НН- в суффиксах прилагательных, причастий, наречий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292720" y="4869000"/>
            <a:ext cx="3533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9036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cc00cc"/>
                </a:solidFill>
                <a:latin typeface="Verdana"/>
              </a:rPr>
              <a:t>Ученица на уроке рассея_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1366920" y="2349360"/>
            <a:ext cx="3997080" cy="648000"/>
          </a:xfrm>
          <a:custGeom>
            <a:avLst/>
            <a:gdLst>
              <a:gd name="textAreaLeft" fmla="*/ 0 w 3997080"/>
              <a:gd name="textAreaRight" fmla="*/ 3471840 w 3997080"/>
              <a:gd name="textAreaTop" fmla="*/ 60048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18069" y="0"/>
                </a:moveTo>
                <a:lnTo>
                  <a:pt x="14537" y="7941"/>
                </a:lnTo>
                <a:lnTo>
                  <a:pt x="17376" y="7941"/>
                </a:lnTo>
                <a:lnTo>
                  <a:pt x="17376" y="20005"/>
                </a:lnTo>
                <a:lnTo>
                  <a:pt x="0" y="20005"/>
                </a:lnTo>
                <a:lnTo>
                  <a:pt x="0" y="21600"/>
                </a:lnTo>
                <a:lnTo>
                  <a:pt x="18761" y="21600"/>
                </a:lnTo>
                <a:lnTo>
                  <a:pt x="18761" y="7941"/>
                </a:lnTo>
                <a:lnTo>
                  <a:pt x="21600" y="7941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952920" y="114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893600" y="244008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3708360" y="191628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708360" y="206064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324000" y="3284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ея_а – невнимательная (прилаг.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жно изменить грамматическую форму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ссея_ы (мн.ч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3635280" y="4365720"/>
            <a:ext cx="486000" cy="504720"/>
          </a:xfrm>
          <a:prstGeom prst="downArrow">
            <a:avLst>
              <a:gd name="adj1" fmla="val 50000"/>
              <a:gd name="adj2" fmla="val 2596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611280" y="5084640"/>
            <a:ext cx="58323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Это краткое прилагатель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Ученица на уроке рассеян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6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6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6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6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6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6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6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6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6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3013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Объясните разницу правописания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560" y="1827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Женщина умна и образованна. – Комиссия уже образован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Говорит подавленно. – Восстание было подавлен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Решение поспешно, непродуманно. – Решение никем не продуман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c00cc"/>
                </a:solidFill>
                <a:latin typeface="Arial"/>
              </a:rPr>
              <a:t>Запомнить:</a:t>
            </a:r>
            <a:endParaRPr b="0" lang="en-US" sz="3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езваный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азваный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евиданный неслыханный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ежданно-негаданно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или –НН-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28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чели…ый мёд, пшё…ая каша, со сгущё…ным молоком, масля…ое пятно; картина, рисова…ая масля…ыми красками; глиня…ая ваза; деревя…ое здание; расположились в гости…ице; замече…ые недостатки; кое-как рассова…ые вещи; в платя…ом шкафу; девочка весьма образова…а; даль тума…а; лома…ая линия; серебря…ые и позолоче…ые украшения; ране…ый человек; ране…ый в бою; на утре…ей зар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. Правописание имён прилагательных зависит от состава суффикс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0" name="Organization Chart 6"/>
          <p:cNvGrpSpPr/>
          <p:nvPr/>
        </p:nvGrpSpPr>
        <p:grpSpPr>
          <a:xfrm>
            <a:off x="324000" y="1557360"/>
            <a:ext cx="8568720" cy="5038920"/>
            <a:chOff x="324000" y="1557360"/>
            <a:chExt cx="8568720" cy="5038920"/>
          </a:xfrm>
        </p:grpSpPr>
        <p:cxnSp>
          <p:nvCxnSpPr>
            <p:cNvPr id="101" name="_s1028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769720" y="2409840"/>
              <a:ext cx="1008360" cy="333324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29"/>
            <p:cNvCxnSpPr>
              <a:stCxn id="105" idx="0"/>
              <a:endCxn id="103" idx="2"/>
            </p:cNvCxnSpPr>
            <p:nvPr/>
          </p:nvCxnSpPr>
          <p:spPr>
            <a:xfrm flipV="1" rot="16200000">
              <a:off x="4659120" y="3520440"/>
              <a:ext cx="1008360" cy="111168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0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3548520" y="3521160"/>
              <a:ext cx="1008360" cy="111096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1"/>
            <p:cNvCxnSpPr>
              <a:stCxn id="109" idx="0"/>
              <a:endCxn id="103" idx="2"/>
            </p:cNvCxnSpPr>
            <p:nvPr/>
          </p:nvCxnSpPr>
          <p:spPr>
            <a:xfrm flipH="1" flipV="1" rot="5400000">
              <a:off x="2437560" y="2410200"/>
              <a:ext cx="1008360" cy="333252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1032"/>
            <p:cNvSpPr/>
            <p:nvPr/>
          </p:nvSpPr>
          <p:spPr>
            <a:xfrm>
              <a:off x="3655800" y="155736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99cc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Verdana"/>
                </a:rPr>
                <a:t>-Н-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3"/>
            <p:cNvSpPr/>
            <p:nvPr/>
          </p:nvSpPr>
          <p:spPr>
            <a:xfrm>
              <a:off x="32400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99cc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-ИН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пчел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и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льв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и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254556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cc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-АН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песч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а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кож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а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_s1035"/>
            <p:cNvSpPr/>
            <p:nvPr/>
          </p:nvSpPr>
          <p:spPr>
            <a:xfrm>
              <a:off x="476712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99cc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-ЯН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глин</a:t>
              </a:r>
              <a:r>
                <a:rPr b="1" lang="en-US" sz="2000" spc="-1" strike="noStrike">
                  <a:solidFill>
                    <a:srgbClr val="3366ff"/>
                  </a:solidFill>
                  <a:latin typeface="Verdana"/>
                </a:rPr>
                <a:t>ян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ый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серебр</a:t>
              </a:r>
              <a:r>
                <a:rPr b="1" lang="en-US" sz="2000" spc="-1" strike="noStrike">
                  <a:solidFill>
                    <a:srgbClr val="3366ff"/>
                  </a:solidFill>
                  <a:latin typeface="Verdana"/>
                </a:rPr>
                <a:t>ян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_s1036"/>
            <p:cNvSpPr/>
            <p:nvPr/>
          </p:nvSpPr>
          <p:spPr>
            <a:xfrm>
              <a:off x="698868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cc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Запомни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юн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зелён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сини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Organization Chart 6"/>
          <p:cNvGrpSpPr/>
          <p:nvPr/>
        </p:nvGrpSpPr>
        <p:grpSpPr>
          <a:xfrm>
            <a:off x="0" y="268200"/>
            <a:ext cx="9143640" cy="6254280"/>
            <a:chOff x="0" y="268200"/>
            <a:chExt cx="9143640" cy="6254280"/>
          </a:xfrm>
        </p:grpSpPr>
        <p:cxnSp>
          <p:nvCxnSpPr>
            <p:cNvPr id="111" name="_s2052"/>
            <p:cNvCxnSpPr>
              <a:stCxn id="112" idx="0"/>
              <a:endCxn id="113" idx="2"/>
            </p:cNvCxnSpPr>
            <p:nvPr/>
          </p:nvCxnSpPr>
          <p:spPr>
            <a:xfrm flipH="1" flipV="1" rot="5400000">
              <a:off x="3353040" y="2802240"/>
              <a:ext cx="1251360" cy="118548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2053"/>
            <p:cNvCxnSpPr>
              <a:stCxn id="115" idx="0"/>
              <a:endCxn id="113" idx="2"/>
            </p:cNvCxnSpPr>
            <p:nvPr/>
          </p:nvCxnSpPr>
          <p:spPr>
            <a:xfrm flipV="1" rot="16200000">
              <a:off x="5724000" y="1616400"/>
              <a:ext cx="1251360" cy="355680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054"/>
            <p:cNvCxnSpPr>
              <a:stCxn id="117" idx="0"/>
              <a:endCxn id="113" idx="2"/>
            </p:cNvCxnSpPr>
            <p:nvPr/>
          </p:nvCxnSpPr>
          <p:spPr>
            <a:xfrm flipV="1" rot="16200000">
              <a:off x="4538520" y="2801880"/>
              <a:ext cx="1251360" cy="118620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055"/>
            <p:cNvCxnSpPr>
              <a:stCxn id="119" idx="0"/>
              <a:endCxn id="113" idx="2"/>
            </p:cNvCxnSpPr>
            <p:nvPr/>
          </p:nvCxnSpPr>
          <p:spPr>
            <a:xfrm flipH="1" flipV="1" rot="5400000">
              <a:off x="2167920" y="1617120"/>
              <a:ext cx="1251360" cy="355608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2056"/>
            <p:cNvSpPr/>
            <p:nvPr/>
          </p:nvSpPr>
          <p:spPr>
            <a:xfrm>
              <a:off x="3555360" y="26820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200" spc="-1" strike="noStrike">
                  <a:solidFill>
                    <a:srgbClr val="cc00ff"/>
                  </a:solidFill>
                  <a:latin typeface="Verdana"/>
                </a:rPr>
                <a:t>-НН-</a:t>
              </a:r>
              <a:endParaRPr b="0" lang="en-US" sz="4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_s2057"/>
            <p:cNvSpPr/>
            <p:nvPr/>
          </p:nvSpPr>
          <p:spPr>
            <a:xfrm>
              <a:off x="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Основа 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на н+н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лунный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весенний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_s2058"/>
            <p:cNvSpPr/>
            <p:nvPr/>
          </p:nvSpPr>
          <p:spPr>
            <a:xfrm>
              <a:off x="474120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-ЕНН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родстве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_s2059"/>
            <p:cNvSpPr/>
            <p:nvPr/>
          </p:nvSpPr>
          <p:spPr>
            <a:xfrm>
              <a:off x="711180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ff0000"/>
                  </a:solidFill>
                  <a:latin typeface="Verdana"/>
                </a:rPr>
                <a:t>Запомнить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cc00ff"/>
                  </a:solidFill>
                  <a:latin typeface="Verdana"/>
                </a:rPr>
                <a:t>стекля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cc00ff"/>
                  </a:solidFill>
                  <a:latin typeface="Verdana"/>
                </a:rPr>
                <a:t>оловя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cc00ff"/>
                  </a:solidFill>
                  <a:latin typeface="Verdana"/>
                </a:rPr>
                <a:t>деревя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_s2060"/>
            <p:cNvSpPr/>
            <p:nvPr/>
          </p:nvSpPr>
          <p:spPr>
            <a:xfrm>
              <a:off x="237060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-ОНН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станцио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краткой форме прилагательны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8273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В краткой форме прилагательных столько же –Н-, сколько в полной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Тума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й – тума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Румя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й - румя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причастиях (полных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3" name="Organization Chart 6"/>
          <p:cNvGrpSpPr/>
          <p:nvPr/>
        </p:nvGrpSpPr>
        <p:grpSpPr>
          <a:xfrm>
            <a:off x="0" y="1557360"/>
            <a:ext cx="9143640" cy="5299200"/>
            <a:chOff x="0" y="1557360"/>
            <a:chExt cx="9143640" cy="5299200"/>
          </a:xfrm>
        </p:grpSpPr>
        <p:cxnSp>
          <p:nvCxnSpPr>
            <p:cNvPr id="124" name="_s3076"/>
            <p:cNvCxnSpPr>
              <a:stCxn id="125" idx="0"/>
              <a:endCxn id="126" idx="2"/>
            </p:cNvCxnSpPr>
            <p:nvPr/>
          </p:nvCxnSpPr>
          <p:spPr>
            <a:xfrm flipH="1" flipV="1" rot="5400000">
              <a:off x="3448440" y="3614040"/>
              <a:ext cx="1060560" cy="118548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3077"/>
            <p:cNvCxnSpPr>
              <a:stCxn id="128" idx="0"/>
              <a:endCxn id="126" idx="2"/>
            </p:cNvCxnSpPr>
            <p:nvPr/>
          </p:nvCxnSpPr>
          <p:spPr>
            <a:xfrm flipV="1" rot="16200000">
              <a:off x="5819400" y="2428200"/>
              <a:ext cx="1060560" cy="355680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3078"/>
            <p:cNvCxnSpPr>
              <a:stCxn id="130" idx="0"/>
              <a:endCxn id="126" idx="2"/>
            </p:cNvCxnSpPr>
            <p:nvPr/>
          </p:nvCxnSpPr>
          <p:spPr>
            <a:xfrm flipV="1" rot="16200000">
              <a:off x="4633920" y="3613680"/>
              <a:ext cx="1060560" cy="118620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3079"/>
            <p:cNvCxnSpPr>
              <a:stCxn id="132" idx="0"/>
              <a:endCxn id="126" idx="2"/>
            </p:cNvCxnSpPr>
            <p:nvPr/>
          </p:nvCxnSpPr>
          <p:spPr>
            <a:xfrm flipH="1" flipV="1" rot="5400000">
              <a:off x="2263320" y="2428920"/>
              <a:ext cx="1060560" cy="355608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3080"/>
            <p:cNvSpPr/>
            <p:nvPr/>
          </p:nvSpPr>
          <p:spPr>
            <a:xfrm>
              <a:off x="3555360" y="155736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700" spc="-1" strike="noStrike">
                  <a:solidFill>
                    <a:srgbClr val="cc00ff"/>
                  </a:solidFill>
                  <a:latin typeface="Verdana"/>
                </a:rPr>
                <a:t>-НН-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_s3081"/>
            <p:cNvSpPr/>
            <p:nvPr/>
          </p:nvSpPr>
          <p:spPr>
            <a:xfrm>
              <a:off x="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cc"/>
                  </a:solidFill>
                  <a:latin typeface="Verdana"/>
                </a:rPr>
                <a:t>С</a:t>
              </a: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 пристав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ой,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роме НЕ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занесё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_s3082"/>
            <p:cNvSpPr/>
            <p:nvPr/>
          </p:nvSpPr>
          <p:spPr>
            <a:xfrm>
              <a:off x="474120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Зависимое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слово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ошенный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ем-то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луг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_s3083"/>
            <p:cNvSpPr/>
            <p:nvPr/>
          </p:nvSpPr>
          <p:spPr>
            <a:xfrm>
              <a:off x="711180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Обр. от гл.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 </a:t>
              </a: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сов.в.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решё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_s3084"/>
            <p:cNvSpPr/>
            <p:nvPr/>
          </p:nvSpPr>
          <p:spPr>
            <a:xfrm>
              <a:off x="237060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С суффикса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ми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 –</a:t>
              </a: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ова-,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-ева-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линова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краткой форме причаст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В кратких причастиях пишется –Н-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Разброс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е вещи –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вещи разброс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нареч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В наречии пишется столько -Н-, сколько в слове, от которого оно образовано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Отвлечё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е темы – говорить отвлечё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о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Пут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й ответ – отвечать пут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0360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c00cc"/>
                </a:solidFill>
                <a:latin typeface="Verdana"/>
              </a:rPr>
              <a:t>Он  рассея__о  прислушивался к этому шу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 rot="10512600">
            <a:off x="1393920" y="1916280"/>
            <a:ext cx="3814560" cy="1009440"/>
          </a:xfrm>
          <a:custGeom>
            <a:avLst/>
            <a:gdLst>
              <a:gd name="textAreaLeft" fmla="*/ 558360 w 3814560"/>
              <a:gd name="textAreaRight" fmla="*/ 3256200 w 3814560"/>
              <a:gd name="textAreaTop" fmla="*/ 147600 h 1009440"/>
              <a:gd name="textAreaBottom" fmla="*/ 861840 h 1009440"/>
            </a:gdLst>
            <a:ahLst/>
            <a:rect l="textAreaLeft" t="textAreaTop" r="textAreaRight" b="textAreaBottom"/>
            <a:pathLst>
              <a:path w="21600" h="21600">
                <a:moveTo>
                  <a:pt x="16075" y="12843"/>
                </a:moveTo>
                <a:cubicBezTo>
                  <a:pt x="16328" y="12192"/>
                  <a:pt x="16458" y="11499"/>
                  <a:pt x="16458" y="10800"/>
                </a:cubicBezTo>
                <a:cubicBezTo>
                  <a:pt x="16458" y="7675"/>
                  <a:pt x="13924" y="5142"/>
                  <a:pt x="10800" y="5142"/>
                </a:cubicBezTo>
                <a:cubicBezTo>
                  <a:pt x="7675" y="5142"/>
                  <a:pt x="5142" y="7675"/>
                  <a:pt x="5142" y="10800"/>
                </a:cubicBezTo>
                <a:cubicBezTo>
                  <a:pt x="5141" y="11048"/>
                  <a:pt x="5158" y="11296"/>
                  <a:pt x="5190" y="11542"/>
                </a:cubicBezTo>
                <a:lnTo>
                  <a:pt x="93" y="12217"/>
                </a:lnTo>
                <a:cubicBezTo>
                  <a:pt x="31" y="11747"/>
                  <a:pt x="0" y="11273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134"/>
                  <a:pt x="21352" y="13457"/>
                  <a:pt x="20870" y="14701"/>
                </a:cubicBezTo>
                <a:lnTo>
                  <a:pt x="23388" y="15676"/>
                </a:lnTo>
                <a:lnTo>
                  <a:pt x="16569" y="18687"/>
                </a:lnTo>
                <a:lnTo>
                  <a:pt x="13558" y="11868"/>
                </a:lnTo>
                <a:lnTo>
                  <a:pt x="16075" y="12843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690560" y="299736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? Каким образом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069800" y="11253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13200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826920" y="2060640"/>
            <a:ext cx="2016360" cy="0"/>
          </a:xfrm>
          <a:prstGeom prst="line">
            <a:avLst/>
          </a:prstGeom>
          <a:ln w="57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79280" y="378936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ея_о – невнима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нареч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льзя изменить грамматическую фор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2843280" y="4941720"/>
            <a:ext cx="485640" cy="505080"/>
          </a:xfrm>
          <a:prstGeom prst="downArrow">
            <a:avLst>
              <a:gd name="adj1" fmla="val 50000"/>
              <a:gd name="adj2" fmla="val 2600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95280" y="5589720"/>
            <a:ext cx="56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Это наречие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ссеянный - рассея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6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6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6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6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6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6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6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6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       </a:t>
            </a:r>
            <a:r>
              <a:rPr b="1" lang="ru-RU" sz="2900" spc="-1" strike="noStrike">
                <a:solidFill>
                  <a:srgbClr val="cc00cc"/>
                </a:solidFill>
                <a:latin typeface="Verdana"/>
              </a:rPr>
              <a:t>Войско противника было рассея__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1403280" y="2349360"/>
            <a:ext cx="6048360" cy="648000"/>
          </a:xfrm>
          <a:custGeom>
            <a:avLst/>
            <a:gdLst>
              <a:gd name="textAreaLeft" fmla="*/ 0 w 6048360"/>
              <a:gd name="textAreaRight" fmla="*/ 5184360 w 6048360"/>
              <a:gd name="textAreaTop" fmla="*/ 59652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17779" y="0"/>
                </a:moveTo>
                <a:lnTo>
                  <a:pt x="13957" y="7200"/>
                </a:lnTo>
                <a:lnTo>
                  <a:pt x="17043" y="7200"/>
                </a:lnTo>
                <a:lnTo>
                  <a:pt x="17043" y="19884"/>
                </a:lnTo>
                <a:lnTo>
                  <a:pt x="0" y="19884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817640" y="23670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189440" y="112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4643280" y="206064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4643280" y="220500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26920" y="3789360"/>
            <a:ext cx="7488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йско противника рассея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ь. (глагол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жно изменить грамматическую форму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йска противника рассея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ь. (мн.ч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3851280" y="5229360"/>
            <a:ext cx="485640" cy="504720"/>
          </a:xfrm>
          <a:prstGeom prst="downArrow">
            <a:avLst>
              <a:gd name="adj1" fmla="val 50000"/>
              <a:gd name="adj2" fmla="val 259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2486880" y="5734080"/>
            <a:ext cx="296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Это причаст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Было рассея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6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6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6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6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6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6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6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6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56:44Z</dcterms:created>
  <dc:creator>USER</dc:creator>
  <dc:description/>
  <dc:language>en-US</dc:language>
  <cp:lastModifiedBy>Макаров</cp:lastModifiedBy>
  <dcterms:modified xsi:type="dcterms:W3CDTF">2012-12-08T02:02:24Z</dcterms:modified>
  <cp:revision>5</cp:revision>
  <dc:subject/>
  <dc:title>-Н- и –НН- в суффиксах прилагательных, причастий, наречий.</dc:title>
</cp:coreProperties>
</file>